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19A-5EAE-481B-B695-C5AC5D2F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ADA-3BB6-418A-AA43-F40A427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40C-1F20-4479-974A-DEE25379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A63-3256-4BAC-8C19-ED59AF92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1E3-88C0-44A5-90E6-85D97919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4AC-884F-4057-8B54-93D09F1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81C-0A72-49F3-A871-39E1D456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FA5-74CB-4C93-A11F-2E9ABF53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096-B971-4DFF-8E36-0C4D50D3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D5A-7EFD-4684-88FB-0C6CD46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1E9-262E-44F0-B948-439BF88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F88-E04B-4D4B-A527-220D723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60F-3916-47F9-B706-3CB435B5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0880" y="-1676520"/>
            <a:ext cx="10159920" cy="10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7:33Z</dcterms:created>
  <dc:creator>PA Department of Education</dc:creator>
  <dc:description/>
  <dc:language>en-US</dc:language>
  <cp:lastModifiedBy>PA Department of Education</cp:lastModifiedBy>
  <dcterms:modified xsi:type="dcterms:W3CDTF">2009-05-21T18:35:23Z</dcterms:modified>
  <cp:revision>1</cp:revision>
  <dc:subject/>
  <dc:title>PowerPoint Presentation</dc:title>
</cp:coreProperties>
</file>